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3.gif" ContentType="image/gif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wmf" ContentType="image/x-wmf"/>
  <Override PartName="/ppt/media/image14.gif" ContentType="image/gif"/>
  <Override PartName="/ppt/media/image1.jpeg" ContentType="image/jpeg"/>
  <Override PartName="/ppt/media/image15.wmf" ContentType="image/x-wmf"/>
  <Override PartName="/ppt/media/image22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40D-B975-4795-8A9B-6F9EA1FC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874-B0B7-4DC4-B956-CB320FE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373-4BB0-4CCF-9BFA-DD9ECEF4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D8F-120F-4285-85B4-04ACB310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FD79-C54B-415B-992F-96A20361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B17D-5E70-425C-8C62-F8E8580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911-60B3-4ACA-AABE-6AB00B3A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2A8B-DC74-4FD7-8370-0DBDEDF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9CEE-185E-4494-B00C-5522679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56E8-B42B-4473-A177-33B6B7B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D9D6-F493-4601-8BAC-11C1234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0FC-31EF-4096-A72D-1AD4AD5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B1E-2915-4D93-B3FD-9CBF402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7241-374C-49AB-A2A2-2760B22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520-E3AF-482D-B418-7B403C7F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F9E-A212-4FD1-8D36-0AE3DBDE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2649-E666-4517-97E4-5DCD21B5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112C-BBDA-4CEA-AA77-A1E18410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7FF5-52D2-4BAD-BE7D-A1F8C8C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D470-6FB3-470C-9AA8-768FA13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C9AD-B81D-434E-B0E9-162CFA21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7925-B7AA-4CD4-8DD4-49D12D8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F18-6631-4573-9A26-A3BB4BA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5D02-6539-40C7-9557-1DA4487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8177-45E9-497C-805D-DA1BB69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A9EA-EA48-48B5-AD69-CB4FB16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1D92-8431-4CD7-9E69-C90DF2B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CC92-0E32-43C2-8493-F516BA8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7C13-A1A7-4EC7-932F-E87ACF7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E779-5EAB-4F13-B1D1-187E44AD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4304-4563-4BE8-B430-29349BE9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CB66-FE6E-469F-AF8F-6CB361B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B99D-68FA-4401-8AFD-953B03E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954-52E1-4CD8-8653-9D9469C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0832-30FA-41F8-A281-CECB042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AEA2-B76E-4548-A09F-5C8381DD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8676-D891-415F-A2A2-5970A27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B30A-9670-4714-9076-E70AC506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6571-A435-45DB-AC04-8B75F1A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44FC-E15D-4187-9413-0AAFB7D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0330-D979-44CA-8479-E33DDC15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E307-59AA-43BB-BBA4-7CCA724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D2A4-4E17-4E48-B7BE-5DA33672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EC5F-A2E5-4ACB-9A03-0E6ABDE9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94B-710A-4A47-86FD-AA6A5E97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B984-2AB2-4F74-AD67-B5B1F291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1A6A-40D8-4AFD-912C-5432413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FC8F-FDDC-439A-ADDC-48F47F1E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8629-E340-4213-9748-3AFF5A2C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057E-24D2-48B9-A050-97DD7BD5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136D-6272-41FF-A4DC-E12F1B6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4D4E-2255-4C4D-8EF0-84625CA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F4EB-D41C-40E0-A808-BE43895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1C9D-D803-4B2C-92C4-15396257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9D71-A7D5-4939-B763-7F0C44AC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7FC-D5A2-45F2-8971-57C5A75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1B71-8617-4A66-9CF7-0EF665E7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740-F280-451C-ABCA-31DE54A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0D1-D72C-4CB5-9A34-EE3AD93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55A-7197-4FA3-B686-F8CF050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8016-3B3E-4610-ACA6-16A8FEE8D50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690-0560-49C7-8229-A26030CF572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E367-E793-4720-8500-BC52E9DD4C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C714-9462-4041-9458-A008C1ADCE5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E91-A376-46D0-ADEA-9201D0BE68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4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-152280" y="268200"/>
            <a:ext cx="9259920" cy="2517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Рисунок1"/>
          <p:cNvPicPr/>
          <p:nvPr/>
        </p:nvPicPr>
        <p:blipFill>
          <a:blip r:embed="rId2"/>
          <a:stretch/>
        </p:blipFill>
        <p:spPr>
          <a:xfrm>
            <a:off x="250920" y="234936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L06"/>
          <p:cNvPicPr/>
          <p:nvPr/>
        </p:nvPicPr>
        <p:blipFill>
          <a:blip r:embed="rId1"/>
          <a:stretch/>
        </p:blipFill>
        <p:spPr>
          <a:xfrm>
            <a:off x="2050920" y="51264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1835280" y="5805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на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>
            <a:hlinkClick r:id="rId2" action="ppaction://hlinksldjump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7493"/>
                </a:moveTo>
                <a:lnTo>
                  <a:pt x="10907" y="7493"/>
                </a:lnTo>
                <a:lnTo>
                  <a:pt x="10907" y="12828"/>
                </a:lnTo>
                <a:cubicBezTo>
                  <a:pt x="10907" y="13751"/>
                  <a:pt x="11708" y="14482"/>
                  <a:pt x="12744" y="14482"/>
                </a:cubicBezTo>
                <a:lnTo>
                  <a:pt x="14406" y="14482"/>
                </a:lnTo>
                <a:cubicBezTo>
                  <a:pt x="15442" y="14482"/>
                  <a:pt x="16242" y="13751"/>
                  <a:pt x="16242" y="12828"/>
                </a:cubicBezTo>
                <a:lnTo>
                  <a:pt x="16242" y="7493"/>
                </a:lnTo>
                <a:lnTo>
                  <a:pt x="14406" y="7493"/>
                </a:lnTo>
                <a:lnTo>
                  <a:pt x="17914" y="3985"/>
                </a:lnTo>
                <a:lnTo>
                  <a:pt x="21587" y="7493"/>
                </a:lnTo>
                <a:lnTo>
                  <a:pt x="19750" y="7493"/>
                </a:lnTo>
                <a:lnTo>
                  <a:pt x="19750" y="12828"/>
                </a:lnTo>
                <a:cubicBezTo>
                  <a:pt x="19750" y="15596"/>
                  <a:pt x="17174" y="18155"/>
                  <a:pt x="14406" y="18155"/>
                </a:cubicBezTo>
                <a:lnTo>
                  <a:pt x="12744" y="18155"/>
                </a:lnTo>
                <a:cubicBezTo>
                  <a:pt x="9976" y="18155"/>
                  <a:pt x="7400" y="15596"/>
                  <a:pt x="7400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L17p8p14"/>
          <p:cNvPicPr/>
          <p:nvPr/>
        </p:nvPicPr>
        <p:blipFill>
          <a:blip r:embed="rId1"/>
          <a:stretch/>
        </p:blipFill>
        <p:spPr>
          <a:xfrm>
            <a:off x="900000" y="512640"/>
            <a:ext cx="7475760" cy="5607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1547640" y="6021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ник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8675640" y="630864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10152"/>
                </a:moveTo>
                <a:lnTo>
                  <a:pt x="7301" y="10152"/>
                </a:lnTo>
                <a:lnTo>
                  <a:pt x="7301" y="15488"/>
                </a:lnTo>
                <a:cubicBezTo>
                  <a:pt x="7301" y="16410"/>
                  <a:pt x="8102" y="17141"/>
                  <a:pt x="9138" y="17141"/>
                </a:cubicBezTo>
                <a:lnTo>
                  <a:pt x="10800" y="17141"/>
                </a:lnTo>
                <a:cubicBezTo>
                  <a:pt x="11836" y="17141"/>
                  <a:pt x="12636" y="16410"/>
                  <a:pt x="12636" y="15488"/>
                </a:cubicBezTo>
                <a:lnTo>
                  <a:pt x="12636" y="10152"/>
                </a:lnTo>
                <a:lnTo>
                  <a:pt x="10800" y="10152"/>
                </a:lnTo>
                <a:lnTo>
                  <a:pt x="14308" y="6645"/>
                </a:lnTo>
                <a:lnTo>
                  <a:pt x="17981" y="10152"/>
                </a:lnTo>
                <a:lnTo>
                  <a:pt x="16144" y="10152"/>
                </a:lnTo>
                <a:lnTo>
                  <a:pt x="16144" y="15488"/>
                </a:lnTo>
                <a:cubicBezTo>
                  <a:pt x="16144" y="18255"/>
                  <a:pt x="13568" y="20814"/>
                  <a:pt x="10800" y="20814"/>
                </a:cubicBezTo>
                <a:lnTo>
                  <a:pt x="9138" y="20814"/>
                </a:lnTo>
                <a:cubicBezTo>
                  <a:pt x="6370" y="20814"/>
                  <a:pt x="3794" y="18255"/>
                  <a:pt x="3794" y="1548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L17p8p13"/>
          <p:cNvPicPr/>
          <p:nvPr/>
        </p:nvPicPr>
        <p:blipFill>
          <a:blip r:embed="rId1"/>
          <a:stretch/>
        </p:blipFill>
        <p:spPr>
          <a:xfrm>
            <a:off x="1835280" y="692280"/>
            <a:ext cx="5616360" cy="3313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1547640" y="6021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фат м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853272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7493"/>
                </a:moveTo>
                <a:lnTo>
                  <a:pt x="12634" y="7493"/>
                </a:lnTo>
                <a:lnTo>
                  <a:pt x="12634" y="12828"/>
                </a:lnTo>
                <a:cubicBezTo>
                  <a:pt x="12634" y="13751"/>
                  <a:pt x="13435" y="14482"/>
                  <a:pt x="14470" y="14482"/>
                </a:cubicBezTo>
                <a:lnTo>
                  <a:pt x="16133" y="14482"/>
                </a:lnTo>
                <a:cubicBezTo>
                  <a:pt x="17169" y="14482"/>
                  <a:pt x="17969" y="13751"/>
                  <a:pt x="17969" y="12828"/>
                </a:cubicBezTo>
                <a:lnTo>
                  <a:pt x="17969" y="7493"/>
                </a:lnTo>
                <a:lnTo>
                  <a:pt x="16133" y="7493"/>
                </a:lnTo>
                <a:lnTo>
                  <a:pt x="19640" y="3985"/>
                </a:lnTo>
                <a:lnTo>
                  <a:pt x="23313" y="7493"/>
                </a:lnTo>
                <a:lnTo>
                  <a:pt x="21477" y="7493"/>
                </a:lnTo>
                <a:lnTo>
                  <a:pt x="21477" y="12828"/>
                </a:lnTo>
                <a:cubicBezTo>
                  <a:pt x="21477" y="15596"/>
                  <a:pt x="18901" y="18155"/>
                  <a:pt x="16133" y="18155"/>
                </a:cubicBezTo>
                <a:lnTo>
                  <a:pt x="14470" y="18155"/>
                </a:lnTo>
                <a:cubicBezTo>
                  <a:pt x="11703" y="18155"/>
                  <a:pt x="9126" y="15596"/>
                  <a:pt x="9126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медный купорос"/>
          <p:cNvPicPr/>
          <p:nvPr/>
        </p:nvPicPr>
        <p:blipFill>
          <a:blip r:embed="rId3"/>
          <a:stretch/>
        </p:blipFill>
        <p:spPr>
          <a:xfrm>
            <a:off x="1547640" y="4221000"/>
            <a:ext cx="5904000" cy="182736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312" name="Rectangle 6"/>
          <p:cNvSpPr/>
          <p:nvPr/>
        </p:nvSpPr>
        <p:spPr>
          <a:xfrm>
            <a:off x="2120400" y="324576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классификацию химическим реак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L10p1p01m"/>
          <p:cNvPicPr/>
          <p:nvPr/>
        </p:nvPicPr>
        <p:blipFill>
          <a:blip r:embed="rId1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L35p1p01"/>
          <p:cNvPicPr/>
          <p:nvPr/>
        </p:nvPicPr>
        <p:blipFill>
          <a:blip r:embed="rId2"/>
          <a:stretch/>
        </p:blipFill>
        <p:spPr>
          <a:xfrm>
            <a:off x="0" y="0"/>
            <a:ext cx="4427640" cy="348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L10p1p03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http://tour.klamas.ru/news/images/%F0%E0%E7%ED%EE%E5/volcano.jpg"/>
          <p:cNvPicPr/>
          <p:nvPr/>
        </p:nvPicPr>
        <p:blipFill>
          <a:blip r:embed="rId4"/>
          <a:stretch/>
        </p:blipFill>
        <p:spPr>
          <a:xfrm>
            <a:off x="4067280" y="0"/>
            <a:ext cx="5076720" cy="3535200"/>
          </a:xfrm>
          <a:prstGeom prst="rect">
            <a:avLst/>
          </a:prstGeom>
          <a:ln w="0">
            <a:noFill/>
          </a:ln>
        </p:spPr>
      </p:pic>
      <p:sp>
        <p:nvSpPr>
          <p:cNvPr id="317" name="Подзаголовок 2"/>
          <p:cNvSpPr/>
          <p:nvPr/>
        </p:nvSpPr>
        <p:spPr>
          <a:xfrm>
            <a:off x="3419640" y="6543720"/>
            <a:ext cx="25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Кислоты</a:t>
            </a: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- это сложные вещества, в молекулах которых содержат  атомы водорода  и кислотный оста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H-R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где </a:t>
            </a: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-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кислотный оста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При электролитической диссоциации кислот в водном растворе образуются катионы водорода  и анион кислотного остатка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29125"/>
          <p:cNvPicPr/>
          <p:nvPr/>
        </p:nvPicPr>
        <p:blipFill>
          <a:blip r:embed="rId2"/>
          <a:srcRect l="0" t="0" r="177" b="0"/>
          <a:stretch/>
        </p:blipFill>
        <p:spPr>
          <a:xfrm>
            <a:off x="6732720" y="0"/>
            <a:ext cx="241128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2997360"/>
            <a:ext cx="4035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дноосновные кислоты,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пример, 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Cl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 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N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ru-RU" sz="20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отщепляют при диссоциации один атом водоро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огоосновные кислоты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S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PO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0" i="1" lang="en-US" sz="20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(отщепляют при диссоциации несколько атомов водоро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51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ислородные кислоты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например, 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CO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, 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3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PO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4</a:t>
            </a:r>
            <a:r>
              <a:rPr b="0" i="1" lang="ru-RU" sz="2400" spc="-1" strike="noStrike" baseline="-25000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(отвечают кислотным оксидам и являются фактически кислотными гидроксидам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ескислородные 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кислоты,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например, 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HBr, H</a:t>
            </a:r>
            <a:r>
              <a:rPr b="0" i="1" lang="en-US" sz="2400" spc="-1" strike="noStrike" baseline="-25000">
                <a:solidFill>
                  <a:srgbClr val="0066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6600"/>
                </a:solidFill>
                <a:latin typeface="Book Antiqua"/>
              </a:rPr>
              <a:t>S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(относятся к числу бинарных соединени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5" descr="29119"/>
          <p:cNvPicPr/>
          <p:nvPr/>
        </p:nvPicPr>
        <p:blipFill>
          <a:blip r:embed="rId2"/>
          <a:stretch/>
        </p:blipFill>
        <p:spPr>
          <a:xfrm>
            <a:off x="0" y="0"/>
            <a:ext cx="225900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885840" y="19807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Относительно смешивания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серной кислоты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с водой с давних пор существует строгое правило: «Сначала вода, потом кислота, иначе произойдет ужасное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Если же сделать наоборот, то первые же порции воды, оставшись наверху (вода легче кислоты) и взаимодействуя с кислотой, разогреваются так сильно, что вскипают и разбрызгиваются вместе с кислотой; могут попасть в глаза, на лицо и одеж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4" descr="-acid3-01"/>
          <p:cNvPicPr/>
          <p:nvPr/>
        </p:nvPicPr>
        <p:blipFill>
          <a:blip r:embed="rId2"/>
          <a:stretch/>
        </p:blipFill>
        <p:spPr>
          <a:xfrm>
            <a:off x="228600" y="1052640"/>
            <a:ext cx="3581280" cy="2305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9-4"/>
          <p:cNvPicPr/>
          <p:nvPr/>
        </p:nvPicPr>
        <p:blipFill>
          <a:blip r:embed="rId3"/>
          <a:stretch/>
        </p:blipFill>
        <p:spPr>
          <a:xfrm>
            <a:off x="539640" y="3573360"/>
            <a:ext cx="3024360" cy="3284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37-3"/>
          <p:cNvPicPr/>
          <p:nvPr/>
        </p:nvPicPr>
        <p:blipFill>
          <a:blip r:embed="rId4"/>
          <a:stretch/>
        </p:blipFill>
        <p:spPr>
          <a:xfrm>
            <a:off x="7020000" y="189000"/>
            <a:ext cx="18190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742240" cy="1878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ru-RU" sz="39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ru-RU" sz="39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9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1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35c5d"/>
                </a:solidFill>
                <a:latin typeface="Verdana"/>
              </a:rPr>
              <a:t>бесцветная жидк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c5d"/>
                </a:solidFill>
                <a:latin typeface="Times New Roman"/>
              </a:rPr>
              <a:t>Получение серной кисло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+ 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=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+6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ru-RU" sz="2800" spc="-1" strike="noStrike" baseline="-25000">
                <a:solidFill>
                  <a:srgbClr val="2c5354"/>
                </a:solidFill>
                <a:latin typeface="Times New Roman"/>
              </a:rPr>
              <a:t>серная кисл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71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оксидами металл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(реакция обмен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O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→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. С основаниям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.(реакция обмена, реакция нейтрализации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)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. С  металл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до Н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р)+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(реакция замещения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С соля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( реакция обмена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MeR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Р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→MeSO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Р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текает в том случае, если образуется осадок или газ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7" descr="j0283002"/>
          <p:cNvPicPr/>
          <p:nvPr/>
        </p:nvPicPr>
        <p:blipFill>
          <a:blip r:embed="rId2"/>
          <a:stretch/>
        </p:blipFill>
        <p:spPr>
          <a:xfrm>
            <a:off x="-324000" y="0"/>
            <a:ext cx="165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MCj02789980000[1]"/>
          <p:cNvPicPr/>
          <p:nvPr/>
        </p:nvPicPr>
        <p:blipFill>
          <a:blip r:embed="rId1"/>
          <a:stretch/>
        </p:blipFill>
        <p:spPr>
          <a:xfrm>
            <a:off x="324000" y="404640"/>
            <a:ext cx="1457280" cy="1143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чественная реакция на ион –</a:t>
            </a:r>
            <a:r>
              <a:rPr b="1" lang="en-US" sz="2800" spc="-1" strike="noStrike">
                <a:solidFill>
                  <a:srgbClr val="ff0066"/>
                </a:solidFill>
                <a:latin typeface="Book Antiqua"/>
              </a:rPr>
              <a:t>SO</a:t>
            </a:r>
            <a:r>
              <a:rPr b="1" lang="en-US" sz="1800" spc="-1" strike="noStrike">
                <a:solidFill>
                  <a:srgbClr val="ff0066"/>
                </a:solidFill>
                <a:latin typeface="Book Antiqua"/>
              </a:rPr>
              <a:t>4</a:t>
            </a:r>
            <a:r>
              <a:rPr b="1" lang="en-US" sz="2800" spc="-1" strike="noStrike" baseline="30000">
                <a:solidFill>
                  <a:srgbClr val="ff0066"/>
                </a:solidFill>
                <a:latin typeface="Book Antiqua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ктивом на серную кислоту и ее соли является катион бария , т.к. с ионами бария сульфат ион образует белый нерастворимый сульфат бария, выпадающий в осад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Book Antiqua"/>
              </a:rPr>
              <a:t>2-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= Ba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794232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+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ц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е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+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O+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рная кислота(конц) восстанавливается д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 зависимости от активности металла и условий протекания ре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елезо и алюминий пассивируются кислотой, т.е покрываются защитной пленкой, поэтому кислоту(конц) можно перевозить в стальных и алюминиевых цистерн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u+2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ц)→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Cu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+2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O+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4Zn+5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конц)→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4ZnS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+4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O+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центрированная серная кислота способна  отнимать воду из молекул органических веществ, обугливая 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заимодействие кислоты с сахарозой(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11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+ 2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4(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нц)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= 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 + 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+C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6" descr="j0301252"/>
          <p:cNvPicPr/>
          <p:nvPr/>
        </p:nvPicPr>
        <p:blipFill>
          <a:blip r:embed="rId2"/>
          <a:stretch/>
        </p:blipFill>
        <p:spPr>
          <a:xfrm>
            <a:off x="7740720" y="260280"/>
            <a:ext cx="14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332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серной кисло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применение"/>
          <p:cNvPicPr/>
          <p:nvPr/>
        </p:nvPicPr>
        <p:blipFill>
          <a:blip r:embed="rId1"/>
          <a:stretch/>
        </p:blipFill>
        <p:spPr>
          <a:xfrm>
            <a:off x="1332000" y="1125360"/>
            <a:ext cx="6514920" cy="4867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47690"/>
          <p:cNvPicPr/>
          <p:nvPr/>
        </p:nvPicPr>
        <p:blipFill>
          <a:blip r:embed="rId2"/>
          <a:stretch/>
        </p:blipFill>
        <p:spPr>
          <a:xfrm>
            <a:off x="1403280" y="342900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434"/>
          <p:cNvPicPr/>
          <p:nvPr/>
        </p:nvPicPr>
        <p:blipFill>
          <a:blip r:embed="rId3"/>
          <a:stretch/>
        </p:blipFill>
        <p:spPr>
          <a:xfrm>
            <a:off x="4859280" y="2924280"/>
            <a:ext cx="12254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02:40Z</dcterms:created>
  <dc:creator>Admin</dc:creator>
  <dc:description/>
  <dc:language>en-US</dc:language>
  <cp:lastModifiedBy>Ольга</cp:lastModifiedBy>
  <dcterms:modified xsi:type="dcterms:W3CDTF">2014-12-10T13:32:28Z</dcterms:modified>
  <cp:revision>13</cp:revision>
  <dc:subject/>
  <dc:title>Серная кисл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6000000000001024140</vt:lpwstr>
  </property>
</Properties>
</file>